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4FB0-B709-4DA3-993E-C17087345C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CDCD-ECC5-434D-9813-DB286DA06309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0766-252A-495D-9750-BED0AC7C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5A75-A667-4DEC-ADE6-BBDCA675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FCAF-3FA2-4FC8-8F08-10340FA8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25B0-D95E-4E7F-B86C-578A8F83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C8B8-33DA-48DA-AF1C-1FDC3684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84AE-88BF-4047-B1AB-282688A5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8FC1-1162-4E89-AA2C-667C9153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859E-2475-4B74-8608-544726B9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3622-37E8-45A3-80AD-9D633A05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FF3E-CD5F-4F8A-9528-BD9C0915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BB0D-1222-4D9D-B9ED-A6FF400F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796-0F6D-4FD8-AC51-340ED6FC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7730-2014-4E9E-A160-B33F0078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2E75-6200-4244-A573-A5A8380B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3496-9ABC-4314-95F9-4D06CC4F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B39D-DC5F-428A-9370-23E2138D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A512-F7B4-4780-8F02-4CF04950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C8DD1-6856-415A-8A62-60CAFAE5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0F77B-F79B-4AE5-A515-D8D744E9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9B1E7-4A35-42A5-A60F-0D36384F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9FF51-AC55-4ED5-8719-12AE67FD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11DE1-A2C8-43A1-AD57-5D1FD47F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9FA-3A38-4C94-9A19-F64D31B8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37BBE-A2C0-4B6D-8CC5-807282C4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C1FD2-6520-48B2-87BA-EEEF730F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627FE-9915-408D-BE43-C695D7B2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F4366-09F5-49A0-87C1-3EB3040C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2C720-1544-4391-B4D0-8D83B575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1272B-37D8-4CC1-873C-FDDCDE13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12584-5C14-4E87-BE2C-72A2A789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4FC5E1-F2CF-47A5-ABB3-E0452B4A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0AB97F-8A82-4066-AE17-5170116E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C944C3-DC91-4037-B830-B9BA8ED3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8FE-FA67-4080-9174-3754C557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A3E93F-D35D-4580-8BC4-6A188A61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493170-7EE3-43CD-A3AB-05797BE8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FDD4B8-CC34-459A-9703-14280C7B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367FFD-EE91-41FB-95BB-EF2A59C5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7B300D-B373-4263-859C-51A31866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1C2DEB-4AE8-4BB6-AEF7-B3957553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F99AA3-6D08-436A-A6B7-68ADAD67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E9EE58-12E5-438B-8859-539D6AA1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7AC551-4531-47D7-9602-DDB99254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DAF29B-9571-4C84-AF45-A9487B40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28A-F615-48CE-BEAD-3998CC8F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51859D-0245-4AA5-9A32-16689FC6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86C192-C166-4BEA-89F1-B72B3A0D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F6158-7FAB-40D3-B727-79CBBA9A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8320F9-B690-480B-BF82-C9B9B6D8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E5975-4B97-481C-898D-330A94FB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EE16C4-5480-4CF1-9D32-3972D817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66D9AD-263E-417C-8F16-0A4AC74B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6C42E4-E0DB-4854-BDF6-73B4E6E0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55F8F8-F749-4C33-B216-FC81A91A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871E9F-274E-4847-A1B4-61693750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CD2-0DF1-4902-8E6B-92DBA258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E0973A-73DA-4EB8-8CDE-EEBE000E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15B71-97FF-4F9E-81AD-FAB7D6B7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196D7-317D-493D-9096-02B3EA8B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7040A-50C0-423D-B279-D04424A2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CFAA5-6503-42BC-B28E-902B634F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0BE01-2F19-4A7A-99C1-2E7D3A39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5CA5D-E8DB-4BB5-B153-8DD4DB05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DE346-D332-4DF0-81EF-7E8533FE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CE120-AFFB-4ED0-8D5A-F745A6C6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D565C-BF47-4C69-B5F4-DF9CC59D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440-93E6-4E14-BDC4-EDD4E9FA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36208-07B7-4189-9031-50F7B324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4FCA5-3224-4505-923B-C2495139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EB884-5AB1-4A72-ADB4-99D80882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6C0BB6-E4E2-4C87-9908-600F9E4C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1BA915-739B-4979-8D98-130B66EB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E51C46-F2F6-4E2E-BDFC-810AA431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501614-8577-4148-8124-6246DE44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0C556-7331-4275-8A52-CF177839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2E0E21-9A51-42BB-A6D5-429C5D5C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6FFD14-A6B7-4B09-81E2-14DC2B5D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FECE-42BB-43BC-BED5-D7FC2755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FD046-8019-41D1-93E9-131D18C9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85A83C-C3A5-4B15-98E6-B1111FA4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119BAB-61AD-46D2-89ED-A18EB981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0BEACD-374E-4678-9BDC-D04A8C34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653C18-0465-4002-AD08-03A95977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07681-46E9-4823-A8FB-1E9EF752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F17CE-CC6B-49E6-8A5A-0398FC98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36408-8CFF-4288-8530-82F65715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5D73D-3044-4FFD-A8C5-76DC441C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0E3F6-CB50-44E3-AE01-043F990C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46C-421A-4954-8B49-4E1E2799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72D6E-F25D-47A3-ADB2-CDBC32C6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D1452-C35A-4365-821E-961BF298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37375-DA40-4C4C-987E-956C6289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B8A5F-D72F-4AF8-A1E5-AE7FF050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A46DD-B46E-4C55-A9E2-76A40A52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41D11-6431-437B-85CD-EC9564DB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A0915-520B-4795-B773-40D2292BF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B26C-675F-480F-A0BA-7215F4957EDF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45CE-C62A-4B10-B9AC-3107142898F0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50CD-6FD9-46C9-A8AC-07466413AF76}" type="datetime">
              <a:rPr b="0" lang="fr-FR" sz="21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48AB-4D6F-4E81-94DC-D31E2A0EF530}" type="slidenum">
              <a:rPr b="1" lang="fr-FR" sz="16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3367-D3A8-4A11-81E8-0EB119F581C5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F229-40B7-4BC6-92EA-618B369182B3}" type="slidenum"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288F-7697-4D19-A03A-B47D56C3E88A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C5F7-927A-4AB7-8AC5-D9CD0C9B95D8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774E-52BF-4A77-A463-8A7A1C094680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7401-4757-4D13-8962-9C9F5C073F45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A36D-F788-4A1F-B7B1-FA89B4A38040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821D-8C1B-4222-93B7-69C69A0C08F9}" type="slidenum">
              <a:rPr b="1" lang="fr-FR" sz="16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F973-503A-4AAF-B487-F208FC107E2F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424C-9176-47DB-B90F-5828B5D7080F}" type="slidenum">
              <a:rPr b="1" lang="fr-FR" sz="2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ED32-C0BE-48CE-810F-AF9A4A5ED03E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98B8-E0B6-4C2D-A543-F53E8B5E2834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Recto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Fiche%20de%20prise%20en%20charge%20Hospitali&#232;re.doc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000920" cy="900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58bb8"/>
                </a:solidFill>
                <a:latin typeface="comic"/>
              </a:rPr>
              <a:t>PRÉSENTATION MSU/LB</a:t>
            </a:r>
            <a:r>
              <a:rPr b="0" lang="fr-FR" sz="4100" spc="-1" strike="noStrike">
                <a:solidFill>
                  <a:srgbClr val="558bb8"/>
                </a:solidFill>
                <a:latin typeface="Tw Cen MT"/>
              </a:rPr>
              <a:t> </a:t>
            </a:r>
            <a:endParaRPr b="0" lang="en-US" sz="41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99640" y="1915920"/>
            <a:ext cx="7272360" cy="86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62626"/>
                </a:solidFill>
                <a:latin typeface="Tw Cen MT"/>
              </a:rPr>
              <a:t>Atelier sur l’Assurance Maladie Universelle</a:t>
            </a:r>
            <a:br>
              <a:rPr sz="800"/>
            </a:b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62626"/>
                </a:solidFill>
                <a:latin typeface="Tw Cen MT"/>
              </a:rPr>
              <a:t>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6320" y="60688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4CBD-3CA4-4B22-B822-54D15789E845}" type="datetime">
              <a:rPr b="0" lang="fr-FR" sz="2100" spc="-1" strike="noStrike">
                <a:solidFill>
                  <a:srgbClr val="ffffff"/>
                </a:solidFill>
                <a:latin typeface="Arial"/>
                <a:ea typeface="Arial"/>
              </a:rPr>
              <a:t>28/07/26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9CF6-7230-4E4B-8CCC-86CD146D4D38}" type="slidenum">
              <a:rPr b="1" lang="fr-FR" sz="1600" spc="-1" strike="noStrike">
                <a:solidFill>
                  <a:srgbClr val="ebddc3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377" name="ZoneTexte 1"/>
          <p:cNvSpPr/>
          <p:nvPr/>
        </p:nvSpPr>
        <p:spPr>
          <a:xfrm>
            <a:off x="539640" y="3933720"/>
            <a:ext cx="7993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262626"/>
                </a:solidFill>
                <a:latin typeface="Tw Cen MT"/>
              </a:rPr>
              <a:t>Expérience de la Mutuelle de Santé Urbaine Laafi Baoré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</a:t>
            </a: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Par Marcel Z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                                                                       </a:t>
            </a:r>
            <a:r>
              <a:rPr b="1" i="1" lang="fr-FR" sz="2000" spc="-1" strike="noStrike" u="sng">
                <a:solidFill>
                  <a:srgbClr val="262626"/>
                </a:solidFill>
                <a:uFillTx/>
                <a:latin typeface="Tw Cen MT"/>
              </a:rPr>
              <a:t>Président du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8" descr=""/>
          <p:cNvPicPr/>
          <p:nvPr/>
        </p:nvPicPr>
        <p:blipFill>
          <a:blip r:embed="rId1"/>
          <a:stretch/>
        </p:blipFill>
        <p:spPr>
          <a:xfrm>
            <a:off x="742968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696080" cy="736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 suite 3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D9A0-5147-4FC5-B31D-5A573A216AEB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7F1C-DB77-4F33-9864-AF4804BF8CC8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56760" y="1571400"/>
            <a:ext cx="8425080" cy="4786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Tw Cen MT"/>
              </a:rPr>
              <a:t>Dans les CMA, CMU et CHU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consultations généralistes et spécialisé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analyses de lab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dentaires sans prothès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ophtalmologiques sans lunet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opérations chirurgic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chirurg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méd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’accouchement dystociqu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frais d’hôtellerie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8" descr=""/>
          <p:cNvPicPr/>
          <p:nvPr/>
        </p:nvPicPr>
        <p:blipFill>
          <a:blip r:embed="rId1"/>
          <a:stretch/>
        </p:blipFill>
        <p:spPr>
          <a:xfrm>
            <a:off x="750096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153280" cy="714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V. Statistiques d’évolution de la MSU/LB 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214200" y="1214280"/>
          <a:ext cx="8715600" cy="564372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2600"/>
                <a:gridCol w="1452600"/>
                <a:gridCol w="1452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dhé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énéfic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tisation recouv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016 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 957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903 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 123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752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ise en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990 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785 5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421 7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 847 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027 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br de 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fréqu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3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6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recouv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5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9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6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sinistra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sp>
        <p:nvSpPr>
          <p:cNvPr id="426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722B-A321-4D68-8C5C-0E65B6249637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CBC9-BA10-4F6B-8E24-4DAD2F587B82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A448-E24A-429C-A1C0-92023751326E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Surconsommation et surprescrip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non respect de la convention par les centres de santé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nsmission tardive des factures dont accumulation de factures parfois d’un an et même plus pour certai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manque de collaboration et le mauvais traitement de certains agents de santé vis-à-vis des mutualis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forte demande par les bénéficiaires des produits de spécialités (ceci entraine le désintérêt de la population et la désinscription des membres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3A7D-1C8C-4E3D-BDC6-301745B00C4F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D413-2995-451A-B258-8D7C7A602EB6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Mettre des médecins conseil à la disposition des mutuel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Appuyer les mutuelles dans la sensibilisation des agents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seigner des modules sur l’assurance maladie et les mutuelles de santé des écoles de formation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vailler à la disponibilité des MEG et sensibiliser la population à leur consommation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Renforcer les capacités des responsables et gestionnaires des mutuelles de santé sur le PCMS de l’UEMOA, la loi sur la mutualité sociale du Burkina et l’AMU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F909-D510-4296-A440-1762BCCC7C61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CEFE-75EC-4313-A62E-93696952D5AC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900" spc="-1" strike="noStrike">
                <a:solidFill>
                  <a:srgbClr val="009900"/>
                </a:solidFill>
                <a:latin typeface="comic"/>
              </a:rPr>
              <a:t>Merci de votre aimable  attention!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Laafi Baoré, S’unir aujourd'hui pour garantir demai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Contacts: 25 36 15 25/71 80 07 97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Tw Cen MT"/>
              </a:rPr>
              <a:t>Mail: msu.laafibaore@yahoo.f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2" name="Picture 8" descr=""/>
          <p:cNvPicPr/>
          <p:nvPr/>
        </p:nvPicPr>
        <p:blipFill>
          <a:blip r:embed="rId1"/>
          <a:stretch/>
        </p:blipFill>
        <p:spPr>
          <a:xfrm>
            <a:off x="75722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PLAN DE PRESENTATION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68E1-6E3C-4A02-8E3F-5DFCCFAF5059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C464-5183-4B38-95F8-F83935A24FD8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95280" y="2133360"/>
            <a:ext cx="8424720" cy="26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Naissance de la MSU-LB 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Conditions d’adhésion et de prise en char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Prestations prises offer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Statistiques sur l’évolution de la MSU-LB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rencontrées et 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7696080" cy="723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CC35-2DCE-4F75-B4CA-D81F20DB43A3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6ECA-A2E9-4C3C-BDC9-CFAC0206B613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57120" y="128556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Née de la volonté d’un certain nombre d’organisation de la société civile et d’entreprises (08)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Réalisée son étude de faisabilité sous la houlette du RAMS.BF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Tenue de son AGC le 30 juin 2006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Le lancement officiel 28 février 2007 au CMA du 30 sous la présidence du MTSS et le parrainage du Maire de la Commune de Ouagadougou de l’époqu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ébut des prestations en 1</a:t>
            </a:r>
            <a:r>
              <a:rPr b="0" lang="fr-FR" sz="2900" spc="-1" strike="noStrike" baseline="30000">
                <a:solidFill>
                  <a:srgbClr val="000000"/>
                </a:solidFill>
                <a:latin typeface="Tw Cen MT"/>
              </a:rPr>
              <a:t>er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 avril 200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7696080" cy="72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(suite)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6C5A-08BB-460A-8C2E-991C10A50171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8160-43FE-4137-9A25-69C7AE6CB5D7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57120" y="1714680"/>
            <a:ext cx="8175600" cy="4665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4000"/>
          </a:bodyPr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 public cible de départ était constitué des membres des organisations mères de la mutuel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haque organisation a constitué une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Au sein de chaque section il y a un bureau de la MSU-LB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e bureau est chargé de l’animation, l’enregistrement de nouveaux adhérents, de collecte des cotisations et de la gestion de la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Une section (inter pro) s’est créée qui regroupe des personnes n’appartenant à aucune de ces organisation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Toutes les adhésions et cotisations sont reversées à l’unité gestio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2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696440" cy="107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F485-8444-4B7C-85AC-84893CBEE265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D5AF-F79B-4227-AB1C-D8E3CB7B0C05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000" y="198864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’adhésion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iement de frais d’adhésion de 2 500 frs pour une famille de 5 personn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adhérent + conjoint + enfants à charge de moins de 18 ans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ment de cotisation de 12 000 frs par personne et par a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r au moins 6 mois de cotisation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pporter une copie simple d’extrait de naissance ou CNIB ou passeport et une photo de chaque inscrit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3575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7429680" y="21420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404280"/>
            <a:ext cx="8029440" cy="8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1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1068-7050-4A8A-A395-7AB9A0C9A6EA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411C-17B6-474C-A2E7-96791AC850A9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95280" y="1628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e prise en charg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Observer une période de stage de 03 mo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Se rendre dans une des 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26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 formations sanitaires conventionné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10 CSPS, 6 CM, 3 CMU, 5 CMA, l’OST et le CHU-YO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cepter la prise en charge de 7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résenter sa </a:t>
            </a:r>
            <a:r>
              <a:rPr b="0" lang="fr-FR" sz="2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carte 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de memb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yer un ticket modérateur de 3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774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</a:t>
            </a:r>
            <a:br>
              <a:rPr sz="2800"/>
            </a:b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suite2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7842-CD52-4D32-A431-6D817AD78E65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106E-E215-49DB-8B33-37F7D9B96F36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56760" y="1785600"/>
            <a:ext cx="8286840" cy="4403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lvl="1"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Circuit de prise en charge 1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résenter votre carte de membre au guichet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prise en charge au CHU-YO est faite sur présentation d’une </a:t>
            </a:r>
            <a:r>
              <a:rPr b="0" lang="fr-FR" sz="25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fiche de PEC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délivrée par l’UG,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 vos frais médicaux: consultation, examen, hospitalisation…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 cas d’ordonnance présentez votre carte au dépôt pharmaceutique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s frais d’ordonnances (MEG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3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E60B-2F5F-486B-8919-0E282316951B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183B-DB87-4AB5-A63E-8EA8AC90D45C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28760" y="1904760"/>
            <a:ext cx="8501040" cy="447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lvl="1" marL="334080" indent="-33408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w Cen MT"/>
              </a:rPr>
              <a:t>Circuit de prise en charge 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En cas de rupture de médicaments au dépôt,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hetez vos médicaments dans une pharmacie de la place à la totalité du montan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dressez une demande de remboursement au PCA de la MSU/LB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Pièces jointes (reçu d’achat, ordonnances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Même procédure si vous n’a pas été traité en que mutualiste (en cas d’oubli de votre carte par exemple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200" indent="-286200"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696080" cy="934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3F28-4247-43C3-A378-5AC5E77F015D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8770-8E70-4834-BAD7-4E6EC7E1D029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9528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Dans les CSPS, CM (Les soins ambulatoires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soins ambulatoires : consultation curative, soins infirmiers, petite chirurgie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Médicaments essentiels génériques (M.E.G.) de la liste nationale des médicaments essentiels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accouchement normal 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a mise en observation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évacuation vers le centre de référenc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1:03:26Z</dcterms:created>
  <dc:creator>NOMBRE B.</dc:creator>
  <dc:description/>
  <dc:language>en-US</dc:language>
  <cp:lastModifiedBy>Poste 12</cp:lastModifiedBy>
  <dcterms:modified xsi:type="dcterms:W3CDTF">2015-06-09T08:42:55Z</dcterms:modified>
  <cp:revision>117</cp:revision>
  <dc:subject/>
  <dc:title>Présentation MSU/LB</dc:title>
</cp:coreProperties>
</file>